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3EF-0F52-42D7-BAC0-51F8EEDB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D6B-2FFA-471C-9D5E-EBFA2FF2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AB0-ED10-45A1-93D7-F5441988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CDF-BDE9-444D-A50F-A9B85D5E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76D4-006D-4401-8EC4-2EE72B02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A588-E430-4318-AE59-33252FB8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F44-A0E5-4AB7-B179-381E5930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98D2-1303-46DB-980C-49D5116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73D5-305E-48AC-8C4C-60619ADB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92A9-C338-43BE-A823-736EF432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91A2-3390-4907-9D03-1D1CD58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25D-FB23-4934-B269-33438B82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0335-A41A-411E-ACA8-9EACB2D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A136-0DFA-46FA-AB01-F9233E9E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A99B-D629-4874-9577-8CC5EE79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3FF-17ED-4A2C-A880-9B5A331D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70D5-4F8A-4996-B025-80216562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D74-7602-4183-B493-0BEEFA59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617-BB9C-4CD6-AA37-F180E7D1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44F-9013-460F-9043-59FF6509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699-2485-4BC6-B8BC-549A86F7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83C-3A30-4414-9C33-B6DC1B3A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495-AFBF-4EBD-A74B-B4343402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196-CA42-4F9D-BB24-CAF8EE40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572B-CDEB-4245-87F1-10F3DBE4EB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5158-E2C0-4AA0-8434-00651FF4D2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OLNO PRENOSIVE BOLESTI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emećaji koji se šire uglavnom polnim kontaktom, ali se ne može isključiti ni blizak kontakt druge vrs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ffcc"/>
                </a:solidFill>
                <a:latin typeface="Tahoma"/>
              </a:rPr>
              <a:t>Condylomata la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pularni sifilidi, na periferiji vulve i an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ke, sunđeraste građe, sa ravnim vrhom i širokom baz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rozije na njima sa eksudacijom veoma infektivnog ser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ukozne naslage istovremeno sa makulopapularnim lezijama kož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a egzacerbacijama i remisijama sekundarni sifilis traje 9-12 meseci i nestaju klinički zna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rolološki testovi pozitiv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tencija različitog traj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RCIJERNI SIFIL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anje od 1/3 progredira u treći stadij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stali u latenciji tokom čitavog živ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astaje 3-20 godina nakon primarn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vidu guma, kardiovaskularnih poremećaja i neurosifili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gum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je granulom sa infiltracijom limfocitima i mononuklea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kasnom stadijumu kao psorijarizoformne lezije, ulcerišu kroz kož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Dg i 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ikroskopski pregledi na tamnom polju uzoraka sa le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erološki, obavezno ih kombinov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enicillini ili tetracikl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Šankroid – </a:t>
            </a:r>
            <a:r>
              <a:rPr b="0" i="1" lang="sr-Latn-CS" sz="4400" spc="-1" strike="noStrike">
                <a:solidFill>
                  <a:srgbClr val="ffffcc"/>
                </a:solidFill>
                <a:latin typeface="Tahoma"/>
              </a:rPr>
              <a:t>ulcus mo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kutna seksualno prenosiva i sve češća bol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ram-neg </a:t>
            </a:r>
            <a:r>
              <a:rPr b="0" i="1" lang="sr-Latn-CS" sz="2400" spc="-1" strike="noStrike">
                <a:solidFill>
                  <a:srgbClr val="ffffff"/>
                </a:solidFill>
                <a:latin typeface="Tahoma"/>
              </a:rPr>
              <a:t>haemophylus ducreyi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inkubacija 3-10 d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jedinačne, male osetljive papule, pokidaju se 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staju bolne, neindurirane ulceracije, okružene inflamatornim prsten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bilna, zarazna, smrdljiva sekre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 polnim usnama, zadnjoj komisuri, perineumu i perianal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ogu i u vagini i na cervix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esto ingvinalni adenitis, može aps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g. izolacija hemofilusa iz ulceracija ili gno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h. eritromicin ili sulfonamidi 7-10 d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GRANULOMA INGVINALE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ili Donovanioza – </a:t>
            </a:r>
            <a:r>
              <a:rPr b="0" i="1" lang="sr-Latn-CS" sz="3200" spc="-1" strike="noStrike">
                <a:solidFill>
                  <a:srgbClr val="ffffcc"/>
                </a:solidFill>
                <a:latin typeface="Tahoma"/>
              </a:rPr>
              <a:t>calimatobacterium granulomatis (G - 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 tropskim i suptropskim prede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kubacija 7-30d, papularne i nodularne lezije na vulvi, perineu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ža iznad puca, meka granulirana ulceracija koja se ši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lceracije bezbolne i či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tetraciklini, streptomicin, ampici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LIMFOGRANULOMA VENERUM, </a:t>
            </a:r>
            <a:r>
              <a:rPr b="0" lang="sr-Latn-CS" sz="2800" spc="-1" strike="noStrike">
                <a:solidFill>
                  <a:srgbClr val="ffffcc"/>
                </a:solidFill>
                <a:latin typeface="Tahoma"/>
              </a:rPr>
              <a:t>poseban serotip </a:t>
            </a:r>
            <a:r>
              <a:rPr b="0" i="1" lang="sr-Latn-CS" sz="2800" spc="-1" strike="noStrike">
                <a:solidFill>
                  <a:srgbClr val="ffffcc"/>
                </a:solidFill>
                <a:latin typeface="Tahoma"/>
              </a:rPr>
              <a:t>chlamidie trachomatis</a:t>
            </a: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jčešća je u tropskim oblas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kubacija od nekoliko dana do tri nedel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ezbolne papule ili vezikule, brzo zarasta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limfadenopatija, nekoliko nedelja kasnije, bolni tumori, česte fistule,sporo zaras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norektakni sindrom i genitalna elefantij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Tetraciklini i sulfonam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IRUSNE polno prenosive bole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oluskum kontagioz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erpes simp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umani papiloma viru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IV – virus humane imunodeficijen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epatitis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itomegalo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Moluskum kontagioz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pada samo pločasto slojevit epi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dtipovi su MCV I i MCV II POX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o 15g a i u zrelom dobu posebno kod AIDS-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kubacija 2 do 6 nede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latke poluloptaste papule 2-5 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ože spontana rezolu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rio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Herpes simplex virus, jedna od najčešćih sex prenosivih bole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eoma zarazna, 75% partnera se zarazi. Oko 85% HSV2, ostalo HSV1 (na lic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nkubacija 3-7 d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a velikim i malim usnama, zadnjoj komisuri, perineumu i anu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eckanje i svrab, povišena t, malaksalost, drhtavica, limfadenopatija, vezikule, ulcer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kurentna, veoma zaraz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ciclovir oralno, lokalna higijena, analgez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HPV - epiteliotropni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eko 100 tipova, kožu i mukozn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Tri grupe: mukokutani, izazivači verukoformne epidermodisplazije, anogenital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nkubacija od jednog meseca do tri god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dve trećine infekcija spontano nestaje za 2. 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šiljasti kondilomi (</a:t>
            </a: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condylomata accuminat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) ima i ravni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omplikacije HPV – premaligne i maligne pr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talno u tkivu, pa sklonost recidiv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rioterapija, laser, podofilin, konizacija, E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ksualno prenosive bolesti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radicional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onore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ifi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ankroid (ulcus mo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imfogranuloma venerum (LG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ranuloma ingvinale (Donovanioz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širena lista mikroorganiza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itomegalo-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erpes simplex tip I i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lamidija trahoma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reptokok grupe 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oluskum kontagioz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u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irusi hepatit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Pedikulosis pubis (vašljivos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Tahoma"/>
              </a:rPr>
              <a:t>Phthirius pub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Tahoma"/>
              </a:rPr>
              <a:t>Inkubaija 30 d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Tahoma"/>
              </a:rPr>
              <a:t>Peckanje i svr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este sekundarne piogene infek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Losion sa 0,5% malationa, iskuvavanje odeć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Trihomonijaz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otozoa, Trichomonas vaginalis,  inkubacija 4-20 d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50% asimptomatski, zato Th oba partn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ol, pečenje, žuto zeleni smrdljivi, penušavi sekret iz va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tronidaz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Kandidijaz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Tahoma"/>
              </a:rPr>
              <a:t>candida albicans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gljivica, vulvovagin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uritis, dispareunija, dizurija, pojačan vaginalni sekr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50% reinfekcija, 45% u trudnoć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oralno flukonazol i vaginale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Bakterijske vaginoze B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limikrobna anaerobna in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anje Dedlerovih laktobacila, više raznih mikroorganiz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jačana VS sa neprijatnim mirisom, a pH veći od 4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mselovi kriterijumi za dijagn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Metronidaz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Ostale infekcije vul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specifične bakterijske infekcije stafilokokom i streptokok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cab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uberkul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 poras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even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aži se adekvatna th i vakc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GONOREJA – </a:t>
            </a:r>
            <a:r>
              <a:rPr b="0" i="1" lang="sr-Latn-CS" sz="4000" spc="-1" strike="noStrike">
                <a:solidFill>
                  <a:srgbClr val="ffffcc"/>
                </a:solidFill>
                <a:latin typeface="Tahoma"/>
              </a:rPr>
              <a:t>neisseria gonorrhoeae, </a:t>
            </a: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gram negativna ko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9996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edna od najčešćih infekc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erv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retra 7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ktum 5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Polovina asimptomatsk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izu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ritacija vul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lagod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jačana vaginalna sekrecija-mukopurulen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kutni gonokokni vulv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artolin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Kod asimptomatskih se može razviti sistemska infekcija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(nepoznat je razlog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liartralg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endosinov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ermat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 može i endokarditis, meningitis, konjuktiv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jteža komplikacija je salping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phtalmia neonatorum (u porođaj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rapi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enicil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ephalospor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etracikl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SIFILIS </a:t>
            </a:r>
            <a:r>
              <a:rPr b="0" i="1" lang="sr-Latn-CS" sz="4000" spc="-1" strike="noStrike">
                <a:solidFill>
                  <a:srgbClr val="ffffcc"/>
                </a:solidFill>
                <a:latin typeface="Tahoma"/>
              </a:rPr>
              <a:t>treponema palidum ili spirohaeta pallid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irektan kontakt zbog neotpornosti u spoljnjoj sred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kubacija od 10 do 90 d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jzarazniji u prvim mesecima ali može i pet godina ako se ne le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ARNI SIFIL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akula → pap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 zatim ulceracija to je </a:t>
            </a: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primarni šank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ndurirana, bezbolna, ovalnog oblika sa tamno crvenom osnov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ože ih biti više, uglavnom na velikim usnama, ređe na malim a samo 5% na cervix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edem labija sa regionalnim uvećanjem limfnih žlezda za nekoliko nede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žlezde su čvrste, bezbolne i glat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ez terapije prvi stadijum traje 3-8 nede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KUNDARNI SIFIL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slučaju da se ne leči, odbrambeni mehanizmi eliminišu delimično primarni šank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muni odgovor je nedovoljan za izlečenje. Za 4-6 nedelja nastaje septikemija i to je sekundarni 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labost, t ↑, lezije kože i mukoznih membrana, generalizovani limfaden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a vulvi bradavičaste erupcije- </a:t>
            </a: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condylomata lat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, naslage na mukoz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spa je makularna, papularna, papulo-skvamozna ili pustular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2:58:05Z</dcterms:created>
  <dc:creator> </dc:creator>
  <dc:description/>
  <dc:language>en-US</dc:language>
  <cp:lastModifiedBy>User</cp:lastModifiedBy>
  <dcterms:modified xsi:type="dcterms:W3CDTF">2013-11-14T22:23:32Z</dcterms:modified>
  <cp:revision>3</cp:revision>
  <dc:subject/>
  <dc:title>POLNO PRENOSIVE BOLESTI </dc:title>
</cp:coreProperties>
</file>